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954C-3C86-44B2-A3F5-6B05247F1B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924-60DB-4CC2-AF92-59406F95EA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2B4A-D501-4BBC-92AE-22BA49DAE7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2C92-C68C-4017-B67A-23EC8D3616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580-1F85-4110-86E5-AD3AA45DF2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585B-9445-4107-BADF-AE4F92807C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E8C6-4C37-44B0-B03C-A842F4FF13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8C95-2743-4B6A-8CA6-97C37E541A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445E-8C41-443B-B3FC-E643000148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AEDF-681E-4606-9D30-D790A91DB7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B6D4-597F-4463-982D-8AE25A6E61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AC71-BE48-4F0C-B22C-9118811F20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A5AE-C86F-4AB3-B98D-C0141A3719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7CCF-225C-4EFA-9561-3BA59B1479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40D-5775-4CB7-9458-0C5813F734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2FC-AE33-4262-B9AC-A145D554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CC0-65B8-4620-AC04-23FEC04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E80-AA9E-4E08-8945-A6EF6858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E2A-7DB6-4B41-B629-5733C57D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D3F-7B77-4202-A5E6-38574D46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316-B0B5-4B61-A1B4-4E7DFAA9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713-FF91-4FB8-A89B-C6F1BACF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E6B-9875-4728-BE15-81EE745A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2EE-25E6-44E4-B816-E92421D1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797-A8F1-4032-92B2-34AED20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B62-3E09-436B-888B-DD9B906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F83-1FBA-4AE7-95CE-CBAEE354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170760"/>
            <a:ext cx="9144000" cy="687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2E7C-426A-40DA-8826-F0F6177DC51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7" descr="IPTC-headbanner-simple-200403a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628280"/>
            <a:ext cx="8062920" cy="245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3399"/>
                </a:solidFill>
                <a:latin typeface="Arial"/>
              </a:rPr>
              <a:t>SportsM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SportsML.org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available at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http://www.sportsml.org/dev/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4652640"/>
            <a:ext cx="636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Kelly and Alan Kar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 Team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jing / April 2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0298-4655-4FC9-B3E1-64F2B4E13C9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aining To-Do’s for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enerate HTML documentation based on the documentation that is already present within the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press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unch up on SportsM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EF6-AB4A-4C37-BE9E-7B7C9124FBF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ortsML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for discussion an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7756-DC18-4CBE-9E68-B763FA75F36F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Other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L Team project with SA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ety for American Basebal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000+ member society of Baseball fan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http://www.sabr.o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nching archive of play-by-play data for Major League Baseball for all games from 1954 to 2007… all in SportsML… all for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5E29-6254-4753-88D3-4DEC3718132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ortsStandards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L Team project with SA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unching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http://www.SportsStandards.o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ebsite in the next week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e for pointer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Sport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 Metadata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(free) Archival Libraries of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4A5B-B5B2-42F0-9D3F-AF87E4FBCF3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ortsDB &amp; Sports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rtsDB.org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onal Database representation of Sports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Query Library, which allows everyone to share their favorite SportsDB SQL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rtsCodes.org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keep track of metadata libraries for teams and players(!) across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ki-style” contributions allowed by all approved me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1966-45A6-495D-954A-57C95112FBD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ortsML 2.0: The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2 Compliance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gby Plu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s to Core and Specific Plugi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SportsML To-D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2D1-C117-4049-9849-23C3D330BEF6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ML 2.0 / G2:</a:t>
            </a:r>
            <a:br>
              <a:rPr sz="16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Compliance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3 up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http://www.sportsml.org/dev/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/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Meta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&lt;newsIte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atalogRef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itemMe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ontentMe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through SportsML 2.0 / G2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Q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DE3E-6478-4CFA-B842-069BA137EFE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ML 2.0 / G2:</a:t>
            </a:r>
            <a:br>
              <a:rPr sz="16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Validating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Items for SportsML and NITF (packaged up by th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F01-74B8-4419-80B8-11BF344E33C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ML 2.0 / G2:</a:t>
            </a:r>
            <a:br>
              <a:rPr sz="16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SportsML Changes for G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&lt;sports-metadata&gt; element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got to implement this suggestion in the IPTC package distributed on March 7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2-compliant Documents should not use &lt;article&gt;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companion NITF articles would reside within their own &lt;inlineX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CD9-7090-43AB-81A3-6E7F37149ED2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ML 2.0 / G2:</a:t>
            </a:r>
            <a:br>
              <a:rPr sz="16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SportsML Changes for G2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for redefining datestamps to be G2-style date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for redefining attributes with controlled vocabularies to have QCode-style values (with the colon in the midd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8C3E-FF7E-487E-A1A0-7FC9BA3662D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ML 2.0:</a:t>
            </a:r>
            <a:br>
              <a:rPr sz="16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Rugby Plug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, DTD, Sample File posted at /dev/2.0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File was walked-through at las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he ultimate Rugby, since it lacks play-by-play &lt;ac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statistics are well-selected and encompass what is reported about Rugby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7F28-EC26-47C0-B848-58BFC5EF8C0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ML 2.0:</a:t>
            </a:r>
            <a:br>
              <a:rPr sz="16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General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details on website. Improvement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e hoc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posed changes are backwards-compatible ad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© IPTC – www.ipt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46BA-2A48-46E2-A61A-D21B1F007D3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rtsML 2.0:</a:t>
            </a:r>
            <a:br>
              <a:rPr sz="16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to support all these new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3:54:48Z</dcterms:created>
  <dc:creator>Michael W. Steidl</dc:creator>
  <dc:description/>
  <dc:language>en-US</dc:language>
  <cp:lastModifiedBy>P Wayne</cp:lastModifiedBy>
  <dcterms:modified xsi:type="dcterms:W3CDTF">2008-06-07T01:52:46Z</dcterms:modified>
  <cp:revision>311</cp:revision>
  <dc:subject/>
  <dc:title>NewsML™  Marking up news of any kind</dc:title>
</cp:coreProperties>
</file>